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998-DFF5-4F34-8AF3-32BE2D30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721-6451-4698-A30A-1914D0E7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D75-74CC-4730-A27A-1A5E476A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446-EFB8-432C-A009-AC0DBCCF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BB3-A817-4168-A9F5-B3AAA7AE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F4C-CFA9-42AD-BB3F-FDAB8352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13A-451D-44CE-B9D8-78E2EBB6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BD3-222E-42B7-A6BC-2E7D90D0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178-F71A-4DFC-BA4E-65F351A0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34A-6F05-430F-976C-67231588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DEB-B913-4A22-AF9E-0C85E8C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1B8-E07C-48F6-AA1B-F3F4E38F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685F-FC54-4AEC-9F62-EB30F7797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Desktop/Clark_Christy/student_samples/salmon%20newsletter.pub" TargetMode="External"/><Relationship Id="rId3" Type="http://schemas.openxmlformats.org/officeDocument/2006/relationships/hyperlink" Target="file:///../Desktop/Clark_Christy/student_samples/salmon%20newsletter.pub" TargetMode="External"/><Relationship Id="rId4" Type="http://schemas.openxmlformats.org/officeDocument/2006/relationships/hyperlink" Target="file:///../Desktop/Clark_Christy/student_samples/salmon%20newsletter.pub" TargetMode="External"/><Relationship Id="rId5" Type="http://schemas.openxmlformats.org/officeDocument/2006/relationships/hyperlink" Target="file:///../Desktop/Clark_Christy/student_samples/salmon%20newsletter.pub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ntique Olive"/>
              </a:rPr>
              <a:t>Swimming Up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864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Journey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ne Cl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C Works Teen Parent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828440"/>
            <a:ext cx="5638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 an historical salmon hab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nd analyze accua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progres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1240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2285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 a historical salmon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nd analyz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1828440"/>
            <a:ext cx="6553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our role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6880" y="3200040"/>
            <a:ext cx="6019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impact our water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verse damage that man has ca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we can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science careers effect change in our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52320" y="2361960"/>
            <a:ext cx="5334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necessary components of a good salmon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collect data and display it in a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figure the rate of water mov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ast should the water be moving for good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healthy water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mpact does industry have on habit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mprove water qu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salmon life cy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salmon fit historic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reers in science match my intere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Using Project Approaches, Ongoing Assessment, and CFQs in M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880" y="2057040"/>
            <a:ext cx="6477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labo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peers to collect data to understand the health of their water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-Curr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ading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ee their role in the world  can make it a better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1800" y="2971800"/>
            <a:ext cx="54864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ssessm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for final projec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ier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33920" y="2895480"/>
            <a:ext cx="4952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bidity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1120" y="3429000"/>
            <a:ext cx="44956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Desktop\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ark_Christy\student_samples\salm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wsletter.p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2:21Z</dcterms:created>
  <dc:creator>Christine.Clark</dc:creator>
  <dc:description/>
  <dc:language>en-US</dc:language>
  <cp:lastModifiedBy>Christine.Clark</cp:lastModifiedBy>
  <dcterms:modified xsi:type="dcterms:W3CDTF">2010-08-06T19:20:19Z</dcterms:modified>
  <cp:revision>10</cp:revision>
  <dc:subject/>
  <dc:title>Swimming Upstream</dc:title>
</cp:coreProperties>
</file>